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BDDAD-A529-4078-A764-ABA9E15F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B75FA-439A-4061-8C4E-050C3819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8B1FE-C6E9-4C1E-8A28-3D1BB945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B0F0-68E4-4AE0-9C1F-DAF7A279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263C-FC19-45D3-9F43-B98C6F0C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359F-7057-4883-B8A9-9D7307BB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8E70-AEA6-4DC1-A35C-894D22AF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808A-8EFA-48D8-BACA-781D6C1F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9298-2A65-4225-AF87-E85F0F06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D4C2-CF8E-4DA6-94A0-CE4EC77E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CB51-E0B1-43FB-B711-48CCB2A0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456F7-FC6F-42A8-8231-F82B70AC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FB29-28DD-4889-847F-6449ED85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E40C-50C1-43BA-B6C0-67498EDE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8F41-D8E5-471A-81CD-11209EE5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13EB-9919-44E1-9FBB-4C5B7F9F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EBCE-54A2-4F6B-9165-C3B8768C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F381D-6FEB-4606-AC78-629D24D4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0916E-31CC-4FEB-BDBA-964875AF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FC639-C53C-4982-A626-B795792A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70A9B-55FB-46E4-AEC9-10E5806A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DEE16-DB97-48F8-94B9-1B2A74D9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FFFB-94D3-454C-BD1F-3F669D70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0B275-D1A4-4FFE-9D04-486867D8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3151-A1ED-4FA7-B83E-3F4533F3F5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686E-05B5-4DAE-9D96-E1D096173C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Fallac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een common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Fall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egative form, called “damning the origin”; in positive form, could be called “blessing the origin,” a kind of appeal to autho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argument to abstain from recreational drugs makes you sound like Nancy Rea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So?  Whatever you think of the former First Lady, an argument is neither right nor wrong for her—or for anyone’s—espous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gnoratio elenc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attempting to demonstrate one thesis while in fact demonstrating a different, irrelevant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shall prove Christianity to be true by showing that human beings are immoral without belief in a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While belief in a God may have moral effects, it does nothing to show whether Christianity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ed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A, loaded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an attempt to bias the audience by the use of words chosen for their strong connotativ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rorists” or “freedom-fighter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gime” or “government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an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arguing that because it hasn’t been done or thought of before that it must be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 to 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gumentum ad antiquita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ppeal to tra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, none of our scientists have ever even considered this theory before; if it were right, they would have thought of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Isaac Newton never imagined the Internet,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making an issue more simple than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, the only way to solve child-behavior problems is to spank your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Even supposing spanking does work, what about talking to your children?  Spending quality time with them?  Seeing to it that they are involved in significant ways with their peers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soning the w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the ad homi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casting doubt, aspersions or some other pall over an argument by creating negative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rgeo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rgument that people should be free to pursue private interes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“Bourgeois” is used in an abusive way to make what comes next sound bad; it has nothing to do with the argu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ndum 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, hasty gene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coming to a conclusion based on scanty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went out with three women, and they all dumped me.  I must not be attractive to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Keep up that kind of thinking, and you’re bound to be unlucky in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hib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it’s related to “amphibia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a phrase or sentence that may have more than one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just can’t say enough good about this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is mea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’s just nothing good to say about this person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son’s merits are so high they defy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ulum, argumentum 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, th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issuing threats of force or violence to win agreement instead of by the weight of the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you don’t join my church, you’re going to go to 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Perhaps so, but this doesn’t really help me in my delib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fur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, false dicho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limiting choices to only two when there are more option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’re either with America, or you’re with the terro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One may not necessarily agree with either party or its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reasoning that what is true of the parts must be true of the w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 of fallacy of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basketball team has five all-stars in its starting line up.  They’ll be sure to 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Not so fast.  Each player may be a prima donna who doesn’t “play well with oth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ning the alternative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claiming one argument to be right because an opposing argument is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other reasons have been shown wrong; this one must be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This one could be incorrect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other reasons have been wrong may be reason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ne, but not to accept it as correct without delib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assuming that what is true of the whole is true of the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s fallacy of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 went to Oxford.  She must be exceptionally brill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Not necessarily.  While Oxford may have many smart people in its halls and on the whole be a smart place, it doesn’t mean this pers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v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using the same words in more than one sense within the same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candy bar is better than nothing.  Nothing is better than love.  So, a candy bar is better than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“Nothing” is being used in two different senses, so the conclusion cannot follow from the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al pru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“pruning” meaning from a word’s generally accepted usage in order to save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know I told you I’d buy you a drink.  I just got you a s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the commonly understood sense of the term would mean an alcoholic drink; the arguer is relying on the word’s multiple meanings to weasel his way out of a prom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5:42:44Z</dcterms:created>
  <dc:creator>csclab</dc:creator>
  <dc:description/>
  <dc:language>en-US</dc:language>
  <cp:lastModifiedBy>csclab</cp:lastModifiedBy>
  <dcterms:modified xsi:type="dcterms:W3CDTF">2009-09-13T07:12:17Z</dcterms:modified>
  <cp:revision>19</cp:revision>
  <dc:subject/>
  <dc:title>Logical Fallacies</dc:title>
</cp:coreProperties>
</file>